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B94-B3BF-48EC-B95D-8151F7DE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007B-B425-4D92-8EE5-46AF86F3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31B-711E-4CA6-8EB2-B8AF4C05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0BFA-F00C-43FA-9FF1-2476D307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AA2C-3B35-4FA5-BD77-03DC9FCE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F00D-8D59-4045-A68B-2D620C8E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57AB-EA26-4D34-A5F2-A1E521E2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B240-6588-4DFA-8688-6F08B2B1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C096-037C-465F-8E4A-705402CB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4810-8603-4F69-AC01-15E503CB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DFF1-9582-4DB5-AADD-F9650FB6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07FE-10E1-4FB1-8C49-D464546F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1589-2C5F-4B34-BB49-9BC51E0A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6210-37A8-401D-871F-D85929CB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E8C8-E0EC-4C3C-A23D-E8E12755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FE4C-60AD-4DA5-AB94-A555EF87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733A-2E3B-4597-AD33-B7C7BC3E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1A6D-1D30-4FBC-A451-3748D2F0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EAD1-36AD-4C6B-91C4-37B80D50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B953-F0E6-4E07-A242-A67E2294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9603-9C65-469F-BF16-2E46480D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806-FD84-4107-BE39-118A2474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D766-267D-4E2F-B8CF-3B37A259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185-3CC8-4FD5-88DA-DB9059AB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0830-639A-4022-B03D-1A9297E7FD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816E-FD2F-45AC-867D-8AFABBF188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Historie kr</a:t>
            </a:r>
            <a:r>
              <a:rPr b="0" lang="cs-CZ" sz="5400" spc="-1" strike="noStrike">
                <a:solidFill>
                  <a:srgbClr val="ffff00"/>
                </a:solidFill>
                <a:latin typeface="Arial"/>
              </a:rPr>
              <a:t>yptografie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ccff"/>
                </a:solidFill>
                <a:latin typeface="Arial"/>
              </a:rPr>
              <a:t>Marián Lukačovi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ccff"/>
                </a:solidFill>
                <a:latin typeface="Arial"/>
              </a:rPr>
              <a:t>http://akela.mendelu.cz/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~</a:t>
            </a:r>
            <a:r>
              <a:rPr b="0" lang="cs-CZ" sz="2400" spc="-1" strike="noStrike">
                <a:solidFill>
                  <a:srgbClr val="66ccff"/>
                </a:solidFill>
                <a:latin typeface="Arial"/>
              </a:rPr>
              <a:t>xlukaco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Enigma 4/5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Francouzská  špioná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lská tajná služ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gent </a:t>
            </a: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Asch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ěmci udělali chybu – dvojí opakování klíč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1. května 1940 – Němci přestali klíč opakovat, ale už bylo pozdě – Enigma byla v té době již prolom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AABD-691A-457F-9BE3-2F0CC4AFFA6C}" type="slidenum">
              <a:t>10</a:t>
            </a:fld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Enigma 5/5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Marian Rejewsk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(1905 - 198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Jerzy Rózyck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(???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Henryk Zygalsk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(1906 -197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estrojení Enigmy polskými kryptoanalytiky pouze na základě zachycených šifrových zprá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66ccff"/>
                </a:solidFill>
                <a:latin typeface="Arial"/>
              </a:rPr>
              <a:t>Friedrich Bauer: Decrypted Secrets, Springer-Verlag,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DCA5-6903-4834-8D0F-9D7A1E4534EF}" type="slidenum">
              <a:t>11</a:t>
            </a:fld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60. lét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60. léta – po zrodu počítačů se kryptografie stala veřejně používanou službou pro zajištění důvěrnosti a integrity inform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Teorie složit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nec 60. let – </a:t>
            </a: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Thomas Watso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(IBM) sestavil výzkumný tý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ryptografický systém </a:t>
            </a: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Luci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AD40-4066-45DF-8C93-F6DFCCCC31EF}" type="slidenum">
              <a:t>12</a:t>
            </a:fld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70. lét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973 – </a:t>
            </a: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NIST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veřejnil požadavky na algoritmus na ochranu neutajovaných d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974 – IBM nabídla zdokonalenou podobu algoritmu Luci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edukce 128-bitového klíče na 56 bit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23. listopad 1976 – DES (Data Encryption Standa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2603-7B12-454D-890D-D36886FAD5E5}" type="slidenum">
              <a:t>13</a:t>
            </a:fld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oučasná kryptografie 1/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 cca 1 milion USD je dnes možné postavit stroj, který dokáže hrubou silou rozluštit DES během 3,5 hod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NSA už v roce 1994 dokázala nalézt libovolný 56-bitový klíč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(hrubou silou) </a:t>
            </a: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během 15 min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Použití algoritmů implementovaných ve verzi se 40-bitovým klíčem je dnes komick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80-bitový klíč je již dnes na hranici reálné luštitel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Skutečné zabezpečení – algoritmy s min. 128-bitovým klíč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FAAB-28C2-4F44-ACB9-834D46E1E101}" type="slidenum">
              <a:t>14</a:t>
            </a:fld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oučasná kryptografie 2/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Obrovský vliv USA (NS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př. zdrojové kódy PGP 6.0 byly z USA vyvezeny v papírové podobě a opětovně se přepisovaly a kompilovaly v Evrop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C66-88D6-4688-91DA-DBA109372307}" type="slidenum">
              <a:t>15</a:t>
            </a:fld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incipy současné kryptograf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Symetrická kryptograf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šifrování tajným klíč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Asymetrická kryptograf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šifrování veřejným klíč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23DC-DB1D-4170-8C66-5D43524E563F}" type="slidenum">
              <a:t>16</a:t>
            </a:fld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ymetrická kryptograf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ýh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rych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šifrování nepřenášených d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ýh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potřeba bezpečného kanálu pro předání klíč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počet klíč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259F-CB94-4DB8-A818-8EEEF87F5B47}" type="slidenum">
              <a:t>17</a:t>
            </a:fld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ymetrické algoritm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brovské množ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3-DES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(112 nebo 168 bitů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IDEA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(128 bitů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BlowFish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(32 - 448 bitů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GOST 28147-89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(256 bitů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Cas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(40 - 128 bitů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9FAF-F633-43A0-AC66-26A9DC044CA6}" type="slidenum">
              <a:t>18</a:t>
            </a:fld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ymetrická kryptografie 1/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ýh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není potřeba vyměňovat si před zahájením komunikace klíče neodposlouchávaným kaná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ší počet klíč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DB91-784B-407A-AA96-AD68F1A1E32E}" type="slidenum">
              <a:t>19</a:t>
            </a:fld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Základní pojm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r</a:t>
            </a: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yptograf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Kryptoanalý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ineární, diferenciální, útok hrubou silou, lineárně-diferenciální analýza, timing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odebrea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Kryptolo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ryptografický syst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B946-C6A8-487F-BDD4-B61F05294C67}" type="slidenum">
              <a:t>2</a:t>
            </a:fld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ymetrická kryptografie 2/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výh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asi 1000 krát pomalejší než symetrická kryptograf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pravost klíč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498-6D19-4107-A754-8AFE3662C3EE}" type="slidenum">
              <a:t>20</a:t>
            </a:fld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ymetrické algoritm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D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D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RS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nejrozšířenějš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Eliptické křiv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yužití operace umocňování ve velkých konečných matematických grupá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měr bezpečnost : délka klíč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GP – původně RSA , pak tahanice o licence – nejnovější verze používají DH v kombinaci s </a:t>
            </a: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DSS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(Digital Signature Standar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1F5C-AE9E-420F-B899-BD8A4D0ECB0A}" type="slidenum">
              <a:t>21</a:t>
            </a:fld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dkazy - interne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ccff"/>
                </a:solidFill>
                <a:latin typeface="Arial"/>
              </a:rPr>
              <a:t>http://adela.karlin.mff.cuni.cz/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~t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ttp://www.decros.cz/bezpecnost/_kryptografie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ttp://www.pgp.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ttp://www.nist.g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ttp://www.cacr.math.uwaterloo.ca/h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tp://ftp.funet.fi/pub/crypt/crypt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8DE-A1CD-42AD-B0DC-4CC0C55FCB42}" type="slidenum">
              <a:t>22</a:t>
            </a:fld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arově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vopočátky kryptografie před 4000 l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 000 př. n. l. – </a:t>
            </a: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ATBA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5 stol. př. n. l. – </a:t>
            </a: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Skyt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Polybiův čtver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Caesarova šif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ugustova šif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9B76-DDB0-4DDF-8979-FE091F845FDC}" type="slidenum">
              <a:t>3</a:t>
            </a:fld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ředověk - Aráb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rabští matematikov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Abú Bakr Ahm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412 - encyklopedie </a:t>
            </a: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Subh al-á s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F8F8-B9B0-4DD2-97AC-547541696A26}" type="slidenum">
              <a:t>4</a:t>
            </a:fld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ředověk - Evrop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Albertiho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1500 - první evropská kniha o šifrování, autor </a:t>
            </a: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Johan Tritthe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Francois Viete</a:t>
            </a:r>
            <a:r>
              <a:rPr b="0" lang="cs-CZ" sz="28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1540 - 16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Giovanni Battista della Porta</a:t>
            </a:r>
            <a:r>
              <a:rPr b="0" lang="cs-CZ" sz="28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1541 - 16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dinál Richelie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66ccff"/>
                </a:solidFill>
                <a:latin typeface="Arial"/>
              </a:rPr>
              <a:t>David Kahn: Codebreakers,                  Macmillan Co., New York 19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4B76-4C69-4E46-9A14-1774A63E6343}" type="slidenum">
              <a:t>5</a:t>
            </a:fld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řelom 19. a 20. století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ba vynález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elegra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. světová vál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Zimmermanův tele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918 – zal. Scherbiu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Ri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William Frederic Friedma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(1891 - 196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66ccff"/>
                </a:solidFill>
                <a:latin typeface="Arial"/>
              </a:rPr>
              <a:t>Základy kryptoanalýzy (192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A00E-C29E-45CC-8539-C5882DF88FFD}" type="slidenum">
              <a:t>6</a:t>
            </a:fld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Enigma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1/</a:t>
            </a: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Arthur Scherb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Richard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i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lbertiho d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cs-CZ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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2800" spc="-1" strike="noStrike">
                <a:solidFill>
                  <a:srgbClr val="66ccff"/>
                </a:solidFill>
                <a:latin typeface="Arial"/>
              </a:rPr>
              <a:t>Enig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668760" cy="518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AEC3-8C4B-40FA-88B3-F5A9338BF0A9}" type="slidenum">
              <a:t>7</a:t>
            </a:fld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nigma 2/</a:t>
            </a: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chodn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í ver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ojenská ver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na asi 20 000 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ěmci věřili, že Enigma není potře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1923 – W. Churchil:</a:t>
            </a:r>
            <a:r>
              <a:rPr b="0" lang="cs-CZ" sz="28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i="1" lang="cs-CZ" sz="2800" spc="-1" strike="noStrike">
                <a:solidFill>
                  <a:srgbClr val="66ccff"/>
                </a:solidFill>
                <a:latin typeface="Arial"/>
              </a:rPr>
              <a:t>Světová kriz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obrat ve smýšlení německého vojenského vel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192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zahájena velkovýroba Enig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1926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Enigma masově používána v armádě, státní správě, státem řízených organizací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131-717A-4F75-B5B0-AC5E475E9995}" type="slidenum">
              <a:t>8</a:t>
            </a:fld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Enigma 3/5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jdokonalejší šifrovací systém ve své dob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Začátek 2. světové války – Němci disponovali naprosto bezprecedentní úrovní bezpečnosti komunikac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4D6E-672A-43C0-B50E-862737FFA6D2}" type="slidenum">
              <a:t>9</a:t>
            </a:fld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8:05:18Z</dcterms:created>
  <dc:creator>Mario</dc:creator>
  <dc:description/>
  <dc:language>en-US</dc:language>
  <cp:lastModifiedBy>Mario</cp:lastModifiedBy>
  <dcterms:modified xsi:type="dcterms:W3CDTF">2003-10-28T11:22:17Z</dcterms:modified>
  <cp:revision>48</cp:revision>
  <dc:subject/>
  <dc:title>Historie kryptografie</dc:title>
</cp:coreProperties>
</file>